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7839-3C7E-4048-B363-30A2A4271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g. 1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a) Numerical trace depicting the time evolution of a protein concentration. (b) Satisfaction domain 𝒟&lt;sub&gt;T,ϕ(y)&lt;/sub&gt; of QFLTL formula ϕ(y)=F([A]&gt;y&lt;sub&gt;1&lt;/sub&gt; ∧ F[A]&lt;y&lt;sub&gt;2&lt;/sub&gt;) and trace T, and LTL formulae ϕ&lt;sub&gt;1&lt;/sub&gt;, ϕ&lt;sub&gt;2&lt;/sub&gt; and ϕ&lt;sub&gt;3&lt;/sub&gt;, represented in formula space. (c and d) Representation of satisfaction domains for three perturbations p&lt;sub&gt;1&lt;/sub&gt;, p&lt;sub&gt;2&lt;/sub&gt;, and p&lt;sub&gt;3&lt;/sub&gt;. 𝒟&lt;sub&gt;p&lt;sub&gt;i&lt;/sub&gt;&lt;/sub&gt; denotes 𝒟&lt;sub&gt;T&lt;sub&gt;p&lt;sub&gt;i&lt;/sub&gt;&lt;/sub&gt;, ϕ(y)&lt;/sub&gt;. In (c), the intersection of satisfaction domains (shaded) is not empty and Rsd&lt;sup arrange="stack"&gt;s&lt;/sup&gt;&lt;sub arrange="stack"&gt;ϕ,P&lt;/sub&gt;=3. The property  is satisfied for all perturbations. In (d), the intersection of satisfaction domains is empty and Rsd&lt;sup arrange="stack"&gt;s&lt;/sup&gt;&lt;sub arrange="stack"&gt;ϕ,P&lt;/sub&gt;=∞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9F45-A070-4FB1-8631-31F578A95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C9B0-5403-4FC4-A8A6-4A2269DB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F511-2FE0-4EF6-AC43-E8F3409E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D579F-4829-4F44-AA83-7FA5FA70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84E99-5461-491D-9C4F-48F749C3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1C5DA-B1D2-4FF6-B634-F2F102DA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2B3BF-715E-4C05-AC5C-07811286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2A273-3067-49DE-90F9-381D107A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53328-91AC-4F7B-9662-35EF2E3C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9520D-91C9-4F69-972D-BC0AECC7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D81E7-5D1F-4FD4-8E59-D50E2B59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8244F-4AF7-4084-9B3A-B2FB373A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1455E-79A5-4B15-A194-93B399EE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260-92B6-4A40-9774-E1AB2ED7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7B945-085E-4EA2-B870-6511F71F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8417B-6C3F-4EDF-A574-876A0EBA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31872-E443-4542-9890-D78D31F1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ADC9B-29A4-4CBD-914A-6600206B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7226F-4ED1-4E93-931D-D1DF1F38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147D9-A111-4AB6-8044-9DB2A634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29744-1352-4C1E-A7EB-DD836339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D497E-26C2-45EA-81F1-A9D6C5B1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6B6B9-01D3-4261-B11D-16E3C0C3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7DAD5-4FE9-4592-80C0-1E61CF45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ED7-1FF3-4B41-BB2A-B73026DF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83110-613D-4720-A77B-5781667C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4AAF9-D19B-4D2C-8697-E6170216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7E9C4-DA07-4FEE-BE90-28D03BDD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60753-8466-48E7-B873-D55E7926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E6396-DC3D-4CB1-8EE6-5B9786E4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6D952-AC44-41A6-9F0B-1BA57557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94F00-A3AE-4B28-8F0F-75AB83B8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56336-E89D-475F-B83D-E28A6029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5821D-5C7D-4E57-BF30-7D7BF74F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AD429-7696-4B46-B1DE-219D3EC6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1725-342D-4B91-863A-57B62CA8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2BF31-C0E7-4E12-947A-99C72B6E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FAD10-5114-4E1A-AFAC-6F04673A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9C052-9DD8-4D3F-BFF0-5A067FDE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DE288-FB3D-425D-88F4-CCFB750E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CC7C9-A68C-46C5-B4BF-BE625F59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AFC90-FE95-4077-B789-1B6F866C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98BEA-DE2C-4BE7-A517-1DA2DF8C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60943-2215-4353-8771-84CFB3E6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A8AED-80D3-4254-BEA8-2140F37D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C3DDC-6DE6-43DD-BA77-1C18A731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8C8C-BFFC-45FA-9E5A-CBC0B053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69DA7-E338-49B5-960C-EAF2A7B5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82344-B06D-4818-A48D-D57F4876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EF956-3581-48DA-BDE7-BC7E0D4F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82DEC-C0A7-4745-BD48-52B8C8CE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0BEE3-8C9C-4DA5-9062-BAA4666E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BE1F-66AD-4E4D-89EE-2CF09231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62BC-9895-46B8-B9C8-DC551651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A0F0-C2C7-4F4B-99D8-E5061DD7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94D8-B54A-4756-8E86-2A99ED98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A2F9-72EE-4085-8998-6D577FA2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08BE-E827-494A-B2AF-EC987E3D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ABFC-98DC-41D1-B3D6-373ACFD8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B818-F51A-4673-B57D-D2702CEF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DBE9-6DFF-4322-B1AB-8E765BF3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64B1-1605-4E93-B85B-47C9ABA7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BBB5-4996-4529-9C87-F91A160F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2ABC7-1726-415F-BA87-8C53C908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21786-415D-45B9-A35D-B0209CB4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1870F-B31F-4034-9A86-2092B317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6E5F1-A971-4E3F-8D45-9612365C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1FC23-19E6-41B6-8F83-D7B4C4DB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68E-EE27-43F4-A529-8911ADCF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69D2F-0BAB-490D-AA21-63272395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C8D1B-B78E-4540-84F1-AE65A248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13A4D-1154-4C15-990D-9EE474BC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A776-F47E-404C-AF0C-2BB4A008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1D2A6-4F19-4E50-B5F2-2198FDC3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A806F-8BDB-4350-8448-84472CD6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762AE-91C1-4FCA-8810-C80C27FD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35399-E110-46AB-8843-1735B0B7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6EEA4-0736-457E-9F69-BEC57CC0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A01E4-E139-4092-AD4C-F6D2B348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72B2-B4E9-4FCB-83C6-1CF2C9FD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A81D5-3A5C-4C8E-A937-89B02FBC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9E01F-5288-4D65-8D07-CE1F630E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C1969-5B92-4C4C-BE73-3E3BF8FE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C5BD3-4329-4C95-8360-F0133551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1B158-D582-4E55-860C-676D487B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01BA3-0E14-4EEF-9DCA-642C7899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FC557-65B5-43F5-AF35-7BFEADF5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AEC58-37F8-4DB5-A0DE-21D9100B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BB9E5-558B-4286-9943-A880A6B1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509D9-1B80-40E7-B35E-FDDCFCC3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C2D9-5D05-4579-8B4A-D5E0E9E0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B063C-ACB1-4281-9589-D69040CC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CA86B-6068-4000-A300-611E15FF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CED34-AA87-4AE4-8B40-F999026F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0B9C8-264B-4395-B1D7-EE46C6B2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6C39C-5E3D-4A3C-8138-9EF0FDF2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44135-3BF6-4CF3-AC53-A5172D00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64405-88C7-4C5D-893B-89B8F282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25A2E-63ED-4F34-B615-48785F53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02AA6-A27D-4570-8231-F9BEC7F1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95B58-6EF9-4518-8706-A548CC4D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14BB-4201-41FB-B503-AAD38571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99294-323B-4805-BFD7-B255F9A5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9EF6A-C473-4EB0-AD5C-E351E020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8A201-D756-4CB1-9CAF-EEA724D1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E6751-CC6C-4644-B490-88097A37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6B332-D816-4C5C-9FE3-B1D254AE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8D95C-E0FB-46AC-8C27-AEA091D4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8EF9E-A3E2-4DB7-AFA5-BEBC1E58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87AF6-5EF4-4A80-A82D-D553AB6B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F138E-8A2F-45E9-A30F-0DBB0D9B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F8BEA-B9F9-4682-BA65-33341B87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AEA-6F92-4E77-93D8-1D5AF501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BE6ED-53A1-4AE4-BC52-53ACB098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7A08F-29C1-4231-8A5E-6DF91ADF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85DA6-E909-4CFB-9976-D70CED24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8F810-8C52-40B8-8151-8BC48976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C7589-95A5-4D0F-9D77-A9368ECE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DAFB2-A73A-466C-9194-E5F39BF5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0291D-3758-457B-A3AA-2A301279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D466B-3F2D-4558-A9A0-8EED0E92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41A79-3FA8-4208-AF92-481FD36E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F4035-06E7-48EE-BD79-8943BAC6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463-EF40-4C44-8295-17EC3017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B7335-3767-47B9-B548-C3318C48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61EBB-2A5F-41F2-972C-960DD5DC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57C64-97EB-4B02-92EC-97FDADAE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6E0D6-3054-44CA-BDEB-8AC02CFA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37DCE-5AD9-4E6B-B12A-715F9F59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8F798-1B13-497A-81BB-5A3C552D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3CC19-FA49-469B-861B-FB653DD4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476C1-A2DF-4BB9-85C1-235A26A8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0A9A7-132A-42CD-AE88-0C1AD426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CD961-AC68-4055-998F-BC212A05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B882-06F7-4595-A5BC-5ED4BA40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35E8A-56B9-49DE-9AC5-40D01FE5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2B3FB-7A0C-48C9-9834-446CD731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4E823-71FB-4364-9CDE-15F34F77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01B37-9B7F-4E64-BBC0-546FD90F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11BB0-D65B-481A-A591-2635E567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23F28-91DA-4ABA-83B4-4FBD3C53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CEF59-EE6C-48E0-B517-910139A3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D4583-38A7-44B8-A2AD-04CC61BA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C84FD-85A2-4EE6-A7FF-B4AB7285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B205A-DEF3-4424-A92D-69E15289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AB4C-0416-48B0-A6FB-C216BEBED1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0CAB-4AAC-4FC4-9D59-487860C07A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D3D2-5F8D-4C05-920A-EE7C9496A1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3D39-9FDA-4CA6-96C7-205A47FD1A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itle Placeholder 1"/>
          <p:cNvSpPr/>
          <p:nvPr/>
        </p:nvSpPr>
        <p:spPr>
          <a:xfrm>
            <a:off x="457200" y="35100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CM6 White Label Fig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6248520"/>
            <a:ext cx="388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© The Publisher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40E6-2869-456C-8634-B103C511FD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58E1-12E7-4A4C-9653-08844EEBD7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5EE9-D942-47EC-8004-48FC992F02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BB84-A939-4CF1-8A25-A0D03B4BFC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E0B3-65C9-43C1-9B24-924D6455A6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EAAA-AC47-4E23-8713-1D03CF60EB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4288-A381-4A0F-9D0F-8BF3B069F3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3"/>
          <p:cNvSpPr/>
          <p:nvPr/>
        </p:nvSpPr>
        <p:spPr>
          <a:xfrm>
            <a:off x="19051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 of download:  mm/dd/yy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2 American Medical Association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E49E-4057-40B4-87D0-317F030C9A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Placeholder 2"/>
          <p:cNvSpPr/>
          <p:nvPr/>
        </p:nvSpPr>
        <p:spPr>
          <a:xfrm>
            <a:off x="0" y="5595840"/>
            <a:ext cx="91440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: A general computational method for robustness analysis with applications to synthetic gene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informatics. 2009;25(12):i169-i178. doi:10.1093/bioinformatics/btp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informatics | © 2009 The Author(s)This is an Open Access article distributed under the terms of the Creative Commons Attribution Non-Commercial License (http://creativecommons.org/licenses/by-nc/2.0/uk/) which permits unrestricted non-commercial use, distribution, and reproduction in any medium, provided the original work is properly c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8"/>
          <p:cNvSpPr/>
          <p:nvPr/>
        </p:nvSpPr>
        <p:spPr>
          <a:xfrm>
            <a:off x="0" y="5518080"/>
            <a:ext cx="9144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3"/>
          <p:cNvSpPr/>
          <p:nvPr/>
        </p:nvSpPr>
        <p:spPr>
          <a:xfrm>
            <a:off x="0" y="23184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7T02:22:06Z</dcterms:created>
  <dc:creator/>
  <dc:description/>
  <dc:language>en-US</dc:language>
  <cp:lastModifiedBy/>
  <dcterms:modified xsi:type="dcterms:W3CDTF">2017-04-27T02:23:38Z</dcterms:modified>
  <cp:revision>1</cp:revision>
  <dc:subject/>
  <dc:title/>
</cp:coreProperties>
</file>