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1052-C301-4051-86CB-85EF631AB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. 1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a) Numerical trace depicting the time evolution of a protein concentration. (b) Satisfaction domain 𝒟&lt;sub&gt;T,ϕ(y)&lt;/sub&gt; of QFLTL formula ϕ(y)=F([A]&gt;y&lt;sub&gt;1&lt;/sub&gt; ∧ F[A]&lt;y&lt;sub&gt;2&lt;/sub&gt;) and trace T, and LTL formulae ϕ&lt;sub&gt;1&lt;/sub&gt;, ϕ&lt;sub&gt;2&lt;/sub&gt; and ϕ&lt;sub&gt;3&lt;/sub&gt;, represented in formula space. (c and d) Representation of satisfaction domains for three perturbations p&lt;sub&gt;1&lt;/sub&gt;, p&lt;sub&gt;2&lt;/sub&gt;, and p&lt;sub&gt;3&lt;/sub&gt;. 𝒟&lt;sub&gt;p&lt;sub&gt;i&lt;/sub&gt;&lt;/sub&gt; denotes 𝒟&lt;sub&gt;T&lt;sub&gt;p&lt;sub&gt;i&lt;/sub&gt;&lt;/sub&gt;, ϕ(y)&lt;/sub&gt;. In (c), the intersection of satisfaction domains (shaded) is not empty and Rsd&lt;sup arrange="stack"&gt;s&lt;/sup&gt;&lt;sub arrange="stack"&gt;ϕ,P&lt;/sub&gt;=3. The property  is satisfied for all perturbations. In (d), the intersection of satisfaction domains is empty and Rsd&lt;sup arrange="stack"&gt;s&lt;/sup&gt;&lt;sub arrange="stack"&gt;ϕ,P&lt;/sub&gt;=∞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A472-5BC2-460B-B4A7-44CBDB58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963-D134-435F-89A4-451FE359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80A-2F27-4F1B-A959-2D7289E7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C3CB8-327A-4FAE-A3D8-813CCD6E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2E533-3539-4E07-B29C-7E999A76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E9F55-1657-48E0-8F52-F23A0D21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4EEFB-3192-43FD-9F6E-3302E337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782E1-EF40-4916-843A-11326C1F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0E028-BB15-4950-9F72-6EF1568C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D2395-DCA2-43C5-8792-67D9837C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FAECA-AABA-4571-B77D-43E96525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67D34-D759-43A0-8FE0-5DADC9F4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B2FBA-B841-4C5C-A0AA-340DD053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D98-1C90-44B2-A6F8-E301908F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1D0F3-C72D-43F1-B59A-9846D3B7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4B967-9CE2-4009-BF40-39EA2A62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27544-855D-42B8-A9FA-E9A6A524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CCBDD-64EC-4E60-8018-1C5DC0D2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8A5A6-985F-47DB-BB10-5EB54886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41941-B2F2-48E8-BE72-6F0C4B21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BCF10-3818-4B9D-8411-CB5D20D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7F7C6-18D6-4D81-B58D-27CEFE9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0BFE8-E50E-45D4-BE62-A5907748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E77E4-0780-4F62-B247-E4335BA3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521-173F-4BB5-AD71-78DF4C63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54368-C45F-4288-B82A-34975BE8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C80AD-E488-4A17-AE47-0F7A2415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2C63F-7DA3-463E-AB40-B47CEE96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B4BF9-1283-4EE5-A125-020BC496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35308-42DB-4019-A9D5-527BD87B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09CAA-3C3C-4B6D-80C3-1DED7FAC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1AE62-4E01-4B5B-93AF-3EB9907D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045E4-3C1E-4F7F-9D78-5313352C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FD8D8-5441-44D1-AB3B-F5398FAC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A8110-EA84-42EB-BD49-F35F8AE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A5EC-617F-4C92-8817-0B92636D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3DE33-99A4-4092-ABB0-D9F7A0D8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5DCE2-028C-428E-A3AB-E2196D3E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14B5A-CAFA-4C68-9DFB-5E5C015E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E579E-AE3B-464C-934A-2DDE2B49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BAB0F-1C47-458A-8D7C-B511FE17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4B193-06F6-4011-9718-BA37D537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DE31B-98CF-4BF0-8A87-7B1D36B0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D9217-EF72-41B0-B1DE-DBA41BF7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4DF23-E673-4BBD-B963-FF3A3C2D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51DD9-2554-45A2-A89D-3171F24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6928-A1AB-4E59-879F-AA4D5296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9BDC7-93D1-4C73-8C69-2ABB6FA6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33933-CA41-4B18-89B0-822FBAD8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DA548-382F-48EC-A0DB-05867152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2D560-674A-4863-8B2E-9E652BB5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025BC-31C0-41B7-8320-B74752B1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8658-EBB4-48C0-B4BE-F9EE2B41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17EE-26C1-4C34-8133-307F1C83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FEFC-4A11-4814-A587-1668280D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664B-7FCE-4FE5-9505-518EB811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0FCE-6CA6-478E-8EBD-75D7B090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AEB-43F3-47C5-AFBD-1479560C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D99E-565D-422C-B49E-8E954A30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7CB3-E7DF-4227-9B1B-C6616C0F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8AB7-4022-431C-9501-D2A90AAC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95D8-38F7-4F8F-B923-76FD0C9B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B662-5E70-402D-A383-383588CD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6A592-B594-4353-9CA0-AABAC847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EE7E-6749-496F-B27F-BB07C3BA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69B3-024A-4327-9359-9D8BBC4C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EA2A-4BA6-4BFF-A393-4E485C1B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884A6-1538-4BD3-9427-9C27A39F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89E-EA77-47B9-B4C9-0F64B80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2009-CCC2-42AB-8CA4-BB122A86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F57B-17C6-4A9E-87CA-1395636A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7183-0160-4113-8209-04C71663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003A-0AFD-4A64-AF08-AE1D756E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CEDB-E2E3-4D41-BB38-73AFF0A8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E952-E992-49FB-9AFC-01AFA565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C34E-B0B4-44ED-B29C-72B3CCBA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26C55-4D25-45AB-906C-75CB5933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FC28-FF9B-44BD-9F5E-447803F5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644A-595C-4303-B3E0-BA3ED64F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9F5-91A2-4EF9-AC88-C29F7B81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CAB56-24D4-4963-AE41-A7CF16B6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8D26-E712-4EE0-9EC2-02E55147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CAA94-F0FB-4A8D-9312-BC8FC86A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17347-0F9D-4C98-83B1-7BC88332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82CF-963A-464C-82E2-D01BB6C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E171-677F-4F3C-BB16-9A0BF2DB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69B65-289E-4805-8ACE-6CDE7B1B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534D-97AD-4F7E-98E8-4E850995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0B7A-015B-471C-AA8C-83D9835E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CA204-005C-4597-A498-48409AD9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7D9-C847-4EEB-A129-BFC503B1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A5D8-F3E5-443A-9C80-1A553B6B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E5AEB-BFA6-4757-AF8C-8B139686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AFFD0-0E5C-41A5-9300-0DAF9CC2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D637E-C35D-4BFD-9264-3B23057B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54B28-AD22-4F14-828B-8B91D080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0A5D2-BC9C-4F7D-9A6D-BA4DADC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441D1-AEAD-470B-85D6-F4DAAB2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C7315-941B-40E5-AB21-C417213E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0D9E6-DF15-48A2-8830-1FE1C0A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444CF-BC1D-4B22-BBBF-BF482A91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B27-56AE-4DE7-8D63-2FAF0CA6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D358F-A2CA-45B2-AC47-AFD19106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F3659-84E4-49B3-AB20-F2712143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2BAF-7EE2-4458-82AA-52594E0E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4995-B7EF-4A20-B554-5DBF33F7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81C77-92A4-4FC1-A1F5-D6FEBDB6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7101B-F2A7-40CD-B3B7-9B9716ED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528E7-0E77-4423-8F57-6C7B00B2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410DA-EC8C-4B0C-A565-8FEF22F5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2DACA-7391-430C-89E3-17B7C74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B8EFB-89E5-47E2-9B90-173938E1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F13-757F-4676-9FEB-CD21190C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CE7D0-CCC7-47C5-8A4D-C6D2F6D4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CB4B9-659C-480F-8311-17818C50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63E89-910E-4CFA-A6D9-F8DC5D70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A5290-5661-4DA8-98C4-2B77D6EC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E9246-61E5-4534-BB5A-D76731B1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DC9A3-6B49-42A2-97EB-DA7A5D70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BF350-60AF-4A8D-A8DC-6F9CAB23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425B6-7B92-45C5-B020-4D0E2E25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AD899-508E-4C56-A91A-2E7BB62F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D2094-E789-42C3-8316-A1159BE9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3FC-DD5E-4FED-9471-3F5A1D76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40571-40CD-4C43-BAB0-B12E409C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EA52-CAFA-4CE9-9511-22964A7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F6C5A-D903-4BAF-87FE-EA0A13F2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ECEBF-3F45-4B7A-A4F7-CF94F37E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40635-726E-475F-9053-B55392B2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BBF28-E354-45CA-A54F-09E443D8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CE036-D50E-47AD-983A-877E3823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2FC5C-9F52-41A7-A774-742B1F7C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46F45-483B-4DCC-AE3A-712D13D0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82E9E-FCA5-4496-BDEE-A00D3370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AAC-F6F8-4241-9370-DB4D79DF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ECC46-569E-48B6-81B9-BEE750B5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C1A6F-976A-42A8-ABCB-F572165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DA79E-58A9-4381-87C7-927FCFCC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DCFAF-9AF1-4CD0-8A49-8258DC9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60ABE-FCE3-4F35-8700-9263917B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19D50-3B06-4C53-8556-36CFD72E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842B6-F467-4DAE-8725-34663F56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67C38-3C8A-48FE-B11F-0B0C1EE9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7361E-5376-4929-BD69-77AAC92B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71417-56BD-4036-B1B1-EFD813B9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6ED2-DD5E-4F39-9F06-C7D5FAF7E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CD51-DC45-4A77-BADC-13A2685A6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20CA-F06A-40F7-B41F-1AAEE68E06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776F-464F-4108-A357-30EB1AB47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itle Placeholder 1"/>
          <p:cNvSpPr/>
          <p:nvPr/>
        </p:nvSpPr>
        <p:spPr>
          <a:xfrm>
            <a:off x="457200" y="35100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CM6 White Label Fig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38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© The Publisher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8A8F-0030-430F-BC02-AAEE50DC6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7923-FC52-453F-974A-B1717DB2BC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AC2E-FACD-49FF-99F5-7B10659DA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5107-DE93-4CAB-B73F-C74248B67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5378-1221-4252-AD1F-7221EB141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75AD-476F-4D33-AE8F-1BC7D5BD3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2E31-1E6E-4837-87D5-219B5C6E4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1B3C-B64A-429F-B606-38967E246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Placeholder 2"/>
          <p:cNvSpPr/>
          <p:nvPr/>
        </p:nvSpPr>
        <p:spPr>
          <a:xfrm>
            <a:off x="0" y="5595840"/>
            <a:ext cx="91440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: A general computational method for robustness analysis with applications to synthetic gene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informatics. 2009;25(12):i169-i178. doi:10.1093/bioinformatics/btp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informatics | © 2009 The Author(s)This is an Open Access article distributed under the terms of the Creative Commons Attribution Non-Commercial License (http://creativecommons.org/licenses/by-nc/2.0/uk/) which permits unrestricted non-commercial use, distribution, and reproduction in any medium, provided the original work is properly c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8"/>
          <p:cNvSpPr/>
          <p:nvPr/>
        </p:nvSpPr>
        <p:spPr>
          <a:xfrm>
            <a:off x="0" y="5518080"/>
            <a:ext cx="914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"/>
          <p:cNvSpPr/>
          <p:nvPr/>
        </p:nvSpPr>
        <p:spPr>
          <a:xfrm>
            <a:off x="0" y="23184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7T02:22:06Z</dcterms:created>
  <dc:creator/>
  <dc:description/>
  <dc:language>en-US</dc:language>
  <cp:lastModifiedBy/>
  <dcterms:modified xsi:type="dcterms:W3CDTF">2017-04-27T02:23:38Z</dcterms:modified>
  <cp:revision>1</cp:revision>
  <dc:subject/>
  <dc:title/>
</cp:coreProperties>
</file>