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9DFA-31C3-46F5-AE10-B059BD1A6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g. 5. </a:t>
            </a:r>
            <a:r>
              <a:rPr b="0" lang="en-US" sz="1200" spc="-1" strike="noStrike">
                <a:solidFill>
                  <a:srgbClr val="000000"/>
                </a:solidFill>
                <a:latin typeface="Arial"/>
                <a:ea typeface="Arial"/>
              </a:rPr>
              <a:t>(a) Temporal evolution of the fluorescence following addition of aTc. Crosses, dotted line and solid line represent experimental data from Hooshangi et al. (2005), predictions obtained using the ODE model with reference parameters p&lt;sup&gt;*&lt;/sup&gt;, and average of 5000 numerical simulations of the ODE model with log-normally distributed parameters, respectively. (b) Temporal evolution of the coefficient of variation of the fluorescence following addition of aTc. Crosses and solid line represent coefficient of variations obtained from experimental data in Hooshangi et al. (2005) and from 5000 numerical simulations of the ODE model with log-normally distributed parameters with mean p&lt;sup&gt;*&lt;/sup&gt;, respectively. (c) Numerical simulations of the ODE model with log-normally distributed parameters with mean p&lt;sup&gt;*&lt;/sup&gt;. (d) Distribution of satisfaction degrees for 5000 numerical traces of the perturbed transcriptional cascade model. The corresponding robustness 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BC0F-BDB7-4950-BBFB-24CA4441D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D88C6-2A35-4B71-B123-5F3B2F654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4FDF6-1CE2-455A-9F5D-B33B87472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E12F49-3310-4C30-9F89-6456EF7655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ADB1C7-DEF1-4412-9AE9-D440AB35A0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747758-BF19-4216-A76B-DBD5C8AD0C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AA5614-F7BB-49F3-A098-63FB7A338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8FE27F-9B27-4ECC-B1CE-82D4A06BB3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0EC866-62DE-4D1A-A51E-2CCFE8408B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078F1F-7DF3-40E4-9BCC-82437E3F83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574B8B-9817-46B1-AADD-5A05744479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987316-E2BA-47A7-84D1-58677E8070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46AFD3-5A1E-4F32-A0EC-0B2AE7F570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40F8A-4796-4DDD-A256-F11BAC3CE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C45623-5344-4F80-B84C-FFDD717ED0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00F36A-7464-4D1B-BDB1-CB34D5C5E6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43A47B-C094-4249-BF6C-26C98986F3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EAA860-BFAB-4206-9DC4-6546E656C0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8BD5A0-35A1-4E15-8925-9B6EF929EE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491964-0778-4C32-A0D9-52A25C8387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E22C69-7C49-4B23-A3B5-BE4AACBA78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20930F-1DC7-416F-BE4D-F0FE036DAC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8635E3-6741-4124-93EF-3EF40C01CD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48E3AF-F3EA-4C45-BE44-9A6DD70AAD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B4CF9-CFCA-4D40-B178-3D3DF3118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6F1B54-87D6-4C9B-9D1A-8255A1F0A9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93447B-1156-4401-91FB-8A160E0B213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C04FCD-BA5D-4EB2-8E1A-05F208386C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07C29A-ADF1-4EBC-953F-B2C2DCD57F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6EA538-EB64-43F1-B224-23E2117B51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C7B5FB-D095-4EB1-98B8-021ED64AAA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E49532-6DCD-429A-B9F8-FF74E72E51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10E209-789E-4B29-9341-CDFBDA5C23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6B12EA-B000-41D0-B8DA-B6D241ED05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243F0A-36DA-45F5-A89A-EEF7B0961D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435F0-6848-4289-8595-5E3B1F49E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AECA52-968A-4FF9-B086-1BEDB526F8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6B0C1A-849A-49B6-908B-9C0814E41B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13BD03-4544-45EA-A086-544F5EE1E2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095FA2B-0890-4CA3-B059-E9D03E9E692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57D44D-9F23-4A4B-BADD-F59BE554E3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ACC034-195A-435A-AE01-A8FE1CE049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F80D2B-8532-4C04-BDF0-2F660A23C8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2031DE-185B-4E06-923F-373DBF41FC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2EA79D-162E-4967-AF4C-23BAB4701C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6F3B18-3969-48E4-A6BE-E595678226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F012B-A737-418F-89DA-10A31B9C5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C1148E-288F-4FBD-8AAD-4019219CA5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680D93-B695-4B6C-8839-5B86E91289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7239C1-AA74-4878-98DF-7DA38E871A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0911359-A13C-48FC-AACE-D9D290DB864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DE82C7-B48E-464E-BC64-C0E220412B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1F979-FD27-4E1D-8C16-AE973F41F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06F72-1C29-4014-B0F1-C486DCDF4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B00B3-76A4-43DF-AE34-263577EC5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15D19-4930-4273-A943-6EABD2F66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B6FC3-F343-4549-A2D5-D27D42780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B7942-F93A-4D40-A223-1A5B6343B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4EE0E-1CC6-4A68-BD7E-E118CA1FA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59AF3-7825-4ABB-9302-16066E908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0DFEF-BD7D-4AFE-8698-3EF837826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A347E-00C7-4C4B-8276-E83512CDF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B1A7E-52BB-416E-87EE-5C9D6EDF2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1C2900-D46C-4C7C-8023-FCF85B753B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56F81-4A77-48DA-B38C-2754394514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4F898-E9EC-49D6-977F-A553071274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47BA8-3A66-48AB-9D82-EB6649C5A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8E0435-82B5-4CF7-8313-0E570DA342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3F728-9E73-4E08-A710-3E7516F52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C58D17-3F2E-4F45-B2D3-6DBF1AA1B0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27161-C997-4F2A-A35D-B8AA49F27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A2A07-FAC9-4D3A-94DE-902D3FE80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5A262-6DFC-4A0A-94FA-5A210AA34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651723-2CD8-4519-8FBB-13B88B71E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8A2093-E25A-4318-B1B0-3D0A6B9B37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6895F0-3BA0-4952-9C01-C65E9FB35F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A0FE0D-EE1D-46B8-83B9-109980DEDE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4DC2B1-5DCC-4B1B-BFE8-401FD6535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6DE64-5CB1-43B4-892E-4D68F76A6A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5920A-6BA6-42EB-AD6C-FA4A2CBAD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749CD-1DE2-4358-97D4-326882D9BB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680CE-E112-47F1-9B20-C6A0C0D94B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4A43C-0808-4C01-A19B-3D76A57B4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7B28F-3359-4283-8EE2-9A630370F9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16BD4-0CB7-4F1D-835B-586B11FD4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FA8D4-D74B-4EA9-9E32-FDB6D6731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A86FB-B7DA-4AB4-A005-BE3C6F0C38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F5D686-3B93-462F-ADB0-E206D27C19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D16D3D-5271-4D69-B47E-DA9AE22D0B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CB9A6F-55A3-4990-BC57-E3B8B5E813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9A5F-23FE-4E62-83ED-DA6A6265B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598B4F-EB19-46E2-8DE3-ADBB8BF14C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FE124E-84D7-40BF-A2E0-D4D114582C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1D25D1-8EDE-4E25-9E1A-306939C556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8B952C-A47B-4E6A-8C40-923AA604EC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28B2E2-887D-4882-BE88-EDEF658714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12AD46-D6C9-4D22-A18F-9C6D5CCA40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57F071-DBBB-4FE7-835D-3991EC88E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D80A4-51FD-4FA6-834D-5A961113D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AA6D0D-EE99-4021-AB83-81EA0EB05A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DAEC32-AFD6-4A0C-9AAC-DA762E8FAD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686EA-C184-4B64-AA97-85FAE77F3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C2253C-C9C4-436A-8FEF-3193A0A0DB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78DDF3-3C58-44BC-8EEC-56FC8D6BDE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7C72F5-39CB-47A2-9B77-86FD01D4D1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A5D070-7ACB-46AF-9725-897E29ADBA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EF2DA-382E-458A-B96D-B98B47CFAA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EC2EA3-CE34-4E99-BBE1-8E7D2DF76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AF9366-1D54-4758-BA7D-06DAF701A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9A3C0E-187F-4F7D-960E-583E2D2E58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D13D32-76E4-476B-9C24-C241877D6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DFB49E-D405-4914-8479-A5EAD0CD1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56D49-E77F-4606-917F-1F340A78A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8F876D-F2D4-4822-BB72-1097F4D32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130AD8-B1B6-43D2-90BB-4BC35C7D84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589B62-ECF3-4CE6-A513-BF95E9A27D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875F34-C913-4C2A-A969-43B3269098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F6E049-E66F-466A-93D3-B2E5AB7991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1BD40F-F156-4BF4-8DE7-9FF76E26FD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F3B9B7-711C-4AEB-B1F4-9189F66C7A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0B3882-4EF6-4E14-ADC4-3D975FAC79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2D9629-8ACA-468B-9B1E-09F837F58E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16891-A12A-4FA4-9F4B-E4B97C9B07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1DDEA-6D40-4161-8E9F-7EF97569A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9AAA6-0C44-48CC-9FFD-DD59D12614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239DED-59DD-40F1-AF35-20BA03E7CD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AD043A-0576-46CD-810E-C3C084594F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80BEA5-D616-4506-AC86-17CE6B7032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CDDB1F-B0D7-4C38-AC19-AA8D71231F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30B546-5D3E-4056-960A-9A4BFC0FD2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932A84-444D-4F54-8ECF-4E9085DA2F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9FDC60-8AD0-4D8D-AF96-EE0C20D25E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EAE177-50CE-4574-8E3F-41FB1BC5B6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D53C7E-31C6-4DA3-93BC-8937BCBE6D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00F24-7450-482E-A01D-AE44CA807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CA4824-4997-4C57-A8ED-60C836EE8B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41E4B8-F0FA-4B92-915E-B93C01000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DA52EA-9190-4661-AACC-FC49DFF3BF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061F7-1AA6-411E-93CE-D1F1C16E07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3C7C4D-D943-4D46-8906-30E0088719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67F983-7EAF-4115-B952-F1EDE7643A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4C91C6-EEE6-4D71-B358-D89DA21FDC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030853-B0B8-4999-966D-7E8304BA3E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423E50-0EFF-40DB-8A86-68C685CBBC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D5B33B-FB10-4060-9972-32CFFCFB0B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BC35-DD6D-4A6A-90C6-48F098B460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65E0-749D-450D-BB4F-7934D4D33F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E37E-DCF7-47E1-AF46-1288CE6C33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FB07-6709-4F22-8F07-352AE70782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ED8E-52A9-419B-99A3-67E5DF51BA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FEA0-F920-4495-A872-8A503EE1B9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6ADB-41E1-4643-B322-2ABC03DC37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6705-9119-476A-BB94-C6EAFE89FA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8B3B-5B34-4FFA-9464-2F8C39B6DE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EB27-6CF1-4E62-A01F-AD4838380A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557B-408B-4F2D-BDDA-3EAAA508E8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6BB0-97EC-495C-84C3-E0A52E1FA7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Text Placeholder 2"/>
          <p:cNvSpPr/>
          <p:nvPr/>
        </p:nvSpPr>
        <p:spPr>
          <a:xfrm>
            <a:off x="0" y="5595840"/>
            <a:ext cx="9144000" cy="1262160"/>
          </a:xfrm>
          <a:prstGeom prst="rect">
            <a:avLst/>
          </a:prstGeom>
          <a:noFill/>
          <a:ln w="0">
            <a:noFill/>
          </a:ln>
        </p:spPr>
        <p:style>
          <a:lnRef idx="0"/>
          <a:fillRef idx="0"/>
          <a:effectRef idx="0"/>
          <a:fontRef idx="minor"/>
        </p:style>
        <p:txBody>
          <a:bodyPr lIns="228600" rIns="22860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 general computational method for robustness analysis with applications to synthetic gene 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nformatics. 2009;25(12):i169-i178. doi:10.1093/bioinformatics/btp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nformatics | © 2009 The Author(s)This is an Open Access article distributed under the terms of the Creative Commons Attribution Non-Commercial License (http://creativecommons.org/licenses/by-nc/2.0/uk/) which permits unrestricted non-commercial use, distribution, and reproduction in any medium, provided the original work is properly cited.</a:t>
            </a:r>
            <a:endParaRPr b="0" lang="en-US" sz="1200" spc="-1" strike="noStrike">
              <a:solidFill>
                <a:srgbClr val="000000"/>
              </a:solidFill>
              <a:latin typeface="Arial"/>
            </a:endParaRPr>
          </a:p>
        </p:txBody>
      </p:sp>
      <p:sp>
        <p:nvSpPr>
          <p:cNvPr id="554" name="Rectangle 2"/>
          <p:cNvSpPr/>
          <p:nvPr/>
        </p:nvSpPr>
        <p:spPr>
          <a:xfrm>
            <a:off x="0" y="0"/>
            <a:ext cx="9144000" cy="6858000"/>
          </a:xfrm>
          <a:prstGeom prst="rect">
            <a:avLst/>
          </a:prstGeom>
          <a:no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Straight Connector 8"/>
          <p:cNvSpPr/>
          <p:nvPr/>
        </p:nvSpPr>
        <p:spPr>
          <a:xfrm>
            <a:off x="0" y="551808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Box 3"/>
          <p:cNvSpPr/>
          <p:nvPr/>
        </p:nvSpPr>
        <p:spPr>
          <a:xfrm>
            <a:off x="0" y="231840"/>
            <a:ext cx="9144000" cy="30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02:22:06Z</dcterms:created>
  <dc:creator/>
  <dc:description/>
  <dc:language>en-US</dc:language>
  <cp:lastModifiedBy/>
  <dcterms:modified xsi:type="dcterms:W3CDTF">2017-04-27T02:23:38Z</dcterms:modified>
  <cp:revision>1</cp:revision>
  <dc:subject/>
  <dc:title/>
</cp:coreProperties>
</file>