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3BEA-AE8A-4F48-A627-8273CE447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g. 5. </a:t>
            </a:r>
            <a:r>
              <a:rPr b="0" lang="en-US" sz="1200" spc="-1" strike="noStrike">
                <a:solidFill>
                  <a:srgbClr val="000000"/>
                </a:solidFill>
                <a:latin typeface="Arial"/>
                <a:ea typeface="Arial"/>
              </a:rPr>
              <a:t>(a) Temporal evolution of the fluorescence following addition of aTc. Crosses, dotted line and solid line represent experimental data from Hooshangi et al. (2005), predictions obtained using the ODE model with reference parameters p&lt;sup&gt;*&lt;/sup&gt;, and average of 5000 numerical simulations of the ODE model with log-normally distributed parameters, respectively. (b) Temporal evolution of the coefficient of variation of the fluorescence following addition of aTc. Crosses and solid line represent coefficient of variations obtained from experimental data in Hooshangi et al. (2005) and from 5000 numerical simulations of the ODE model with log-normally distributed parameters with mean p&lt;sup&gt;*&lt;/sup&gt;, respectively. (c) Numerical simulations of the ODE model with log-normally distributed parameters with mean p&lt;sup&gt;*&lt;/sup&gt;. (d) Distribution of satisfaction degrees for 5000 numerical traces of the perturbed transcriptional cascade model. The corresponding robustness 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EDF7-0692-4228-A9B2-4B92A2BA2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E633D-8551-4D7A-A9DD-B9C0E5036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87CF-90A6-458F-9342-1DEA63CBE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E0BDEF-5996-45B0-9FC5-B0D510F578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2CAED3-6B61-4099-AFF4-9977CCA7AC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853360-C881-48F2-A994-C3B03B060F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6AD76-C303-40FC-AB34-52E5EF75AD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1C0A1-39D3-423E-AB02-7B21B1BB33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273BCD-FEB9-4043-813D-B505DA40A6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C3436C-709C-49C3-A6B5-50B25BA867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23924C-9D65-48BC-8AED-650BF15EDC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748634-D76B-4D41-9566-4A7602BD4B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CB7115-1D06-4A21-8538-F1E8FD9108F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5AE34-5514-4B55-BB76-0674DF1FB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008788-F1BA-44C3-9040-239912CE37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21539E-9FB3-4A7A-A41B-C138FCB343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546BD4-6095-44B1-AF31-90591AE17D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5D5E1F-D251-4414-B516-ACB1A63A29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8239FE-B91C-4F3B-B268-5563FF5BE9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869F9D-35DB-44BE-8EFD-82ED2A8A6D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8896B8-D2B8-41D9-82BA-AEFFC660CA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68D712-7A42-412F-B659-B8D12DA75C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59D45A-D42F-40BE-9057-0E93FA83F9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7D5CE8-15BC-4BD0-8885-FB786F3864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19B9E-2B7F-4663-BD0D-5678E4A9C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ADC085-021D-4A17-9E20-536576E446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65279D-3DCA-4D28-B2B9-30EBBEBF58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8DFD58-22B4-4389-9131-BBCA32DCFD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EC0B93-797B-4DFB-B996-97BD390CF9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DFDE96-33D4-44DF-8F78-B8B773B4CF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CF118A-E121-48D9-9CAA-93A4041204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849C3B-BDEA-443D-BB26-5F0C0EB50B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9C45CC-615E-450D-A323-6BF36EA703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CDE695-E9C7-4103-96D4-84576BA4D9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FB9329-796A-4D28-80EA-BEFB0DAB46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F7899-2067-40EF-AC56-DC485AE3F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4B7467-69A5-48C9-9194-2912D80797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EF48D2-4F1E-4CE9-A019-493A0A9F0B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F6BA4D-5822-4B34-B381-64AC9464CA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33522E8-7AA0-463C-9071-3FB19109BD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F32DFB-F4A9-4AE5-B9C8-4B011B5F88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5312C0-233B-4039-B4ED-81E80AD207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C85ACA-3DD6-4C86-B5C9-68FD75A050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BC7F5A-059A-4F7D-9B45-D52C74D7DB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F0EFB6-500D-412D-8079-C6181DBBD0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9AF0B8-0C66-4FDC-8B15-B9E6C896BA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64923-C8A0-4ABA-99EF-073832D9E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52751A-5428-4CD3-BCFC-CDB080B393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EA54E3-5F5F-4867-8F59-2C4C6AADB9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7083081-79EA-4E42-B8BD-37473FF7EE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CAD129-D669-4CB5-AF83-2018820EF8E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364277E-99DD-4359-AAEB-EBEFFB19FC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5AFF5-E74B-4510-A15A-A66DE001B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A079F-A293-4FFC-BDF7-6ADB1CCF8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F82F1-4124-4C48-9A53-9798214CB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65CC7-2D08-47CE-A255-484AFAC4D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42B16-02A0-4281-9791-AE1A7A5F2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5A1CF-F93B-4A67-BC40-B896D2498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36ECA-13C8-4479-8BDB-338AF2A7C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23C28-1B73-4867-A4C0-167F6D67A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522E3-8155-4748-A29A-A1D2CBB50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7BDC9-B384-4465-BC70-08996579C9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94A82-2A91-45A5-8B53-540D51BC2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71E4AD-F287-41E7-A618-966E5EDB3F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9946E3-D488-452C-992A-17A92D8876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D5954-6A09-4226-ABFF-929F24CA2E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2B245-8C2F-462C-A404-659BFA6AF4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D06390-4571-47E7-B9E5-6604816102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E94C0-7B56-4CD9-9C3A-71580826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2C153-E1F9-49E2-9038-0CE9BCCAA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50ED7-5813-4E50-9763-C1521ABAE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E5914-5D80-4DC0-BE4E-760CEB93C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90E24-C536-49CF-9567-105DA031D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1D3A09-D98D-440D-8874-C832B8B10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84D0AC-F25F-42B6-8817-0B47FB17AB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8B7A5B-B948-453B-9CD7-5228A8DE19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571B7E-2079-4149-959F-3D729CC74F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04462A-F213-4B16-8B53-18179C702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930482-D775-40E7-B34D-B775529A2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174FC-3DEF-4934-88D5-0308D28D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DC9BD-1729-41DF-911E-226D83BEE1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EAD399-9D4D-402B-944C-97365C202E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13E44-3548-4938-881A-FAC7BBABD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C3DEF-D1D8-4B61-8AB5-BD7481819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53715-8607-4608-8F1F-FC3622395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E0926-756D-4D81-8C5C-071D22F75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7D629D-2597-457D-B78B-AD8AC5CEC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B49D90-9B68-408E-9BB6-025525CBBE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5AE886-8DAE-4859-9CEB-FC0C66B7F1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0A75EF-2395-423F-9CFB-C8C0578C9B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A2641-3987-411E-95DB-68F2268A4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A5BB63-36B4-4B29-AABC-04F2E9037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29A45-1B55-4C92-81E6-0C7E76895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47A844-B9A2-46DF-AD4C-A39673DB21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B2D8E-1530-4CAB-879D-3094B5BA32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D31325-0674-428B-ABD5-23826D83E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0AD890-4D47-479B-AB0E-DFA19452C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FF8A4-4D76-455F-AC97-AF85256BE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FC4A29-987F-403B-B4B6-FE7E4AE0E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A2163-1E6B-4D41-85B9-E031D9B3BC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594BF9-1648-48DB-95F4-803FADC17D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2B0C3-F7F2-4A1E-A250-2A0A0DAEE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ACD6CC-51F9-4454-A059-3048895FF7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E3B5FC-E812-493F-A222-38719C3934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7B688F-1CF4-4256-8F80-E32B5AE2A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481F13-E7CE-418E-B2F5-F36ACA482C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96A89-90C0-4A01-9A45-FB6FF512AF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6D4FC-EDAC-4F42-8FFD-AD41F8F286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36E645-A239-49D5-96AF-150CDA567D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E9DE8-4B02-4C9A-8A20-16072A0E8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F35C04-9FFA-4769-824D-8675A6126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E4565B-9299-4E5C-9D0E-D76B532E4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0E70D-7713-4FC8-BEF0-CE7D700DF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0B6A0C-65E4-4D9B-89EA-0DCDF11BA9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ADE18B-6416-4463-BD22-B64ABE0017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D72596-09B0-4A89-9420-BE3A6536B8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0A8F16-B535-40A5-B30E-9004C58E3F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78948D-A180-46E5-BF1E-07B380CD89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FF9765-28E5-4CDD-AF62-9A6370C364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2D9788-D89B-48A4-9810-7F3E49A30E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B09416-1D8D-4B58-B476-2B1855709C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DFB58-99EB-4608-AACD-E9F38A4795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84A31-3236-4CAB-B146-D125F13F0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4D4E-6101-4D75-A979-E627C8E35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08090-12E5-4789-88BD-03B7A37822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3D598-62D6-456B-BD63-1E7576141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851939-E5F6-4037-B14F-5CE4960FB7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7A8923-BC94-43B9-9D3E-FADA155247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72E032-E7F2-4971-B894-FB041E539F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DF6DAC-7EE5-422B-95CF-A673EA10AC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4A239-D96E-431A-A965-1EFC871E98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11A520-4916-4817-8A86-B94B0B0F97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B1AFE-3E3B-431D-9D71-1F4BADE64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E1984-195D-4D4C-80A3-2091A5B28C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85440-D2AC-476B-857A-76BA7CD95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4CD275-2630-4C6E-8871-3A1469F86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2351DB-9DA3-4A44-B12C-77608005A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6A94D-C8AC-47A3-B7B4-5741CC060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91A9F-756C-43FC-839F-9B27BC03F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802D7-1553-41BE-931B-F553A23CE5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297F7-212B-468C-9547-1503140306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FDDDD3-C143-4356-884D-A10D0792FC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B00C96-871C-4A9A-93D1-A3004021F7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D25CB7-9FA4-44BF-A155-1CC0C0AF2B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A1B65B-7898-4ABB-B8B0-B2D5B009DC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9923-9216-4E6E-A758-09A98F5A3D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A648-6C1C-46E5-BB50-87E69EEA41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80D2-ED7D-4958-9D01-A3ADD79026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21A4-72A6-42FF-9D84-01DFF02CC2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itle Placeholder 1"/>
          <p:cNvSpPr/>
          <p:nvPr/>
        </p:nvSpPr>
        <p:spPr>
          <a:xfrm>
            <a:off x="457200" y="35100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SCM6 White Label Figure</a:t>
            </a:r>
            <a:endParaRPr b="0" lang="en-US" sz="3000" spc="-1" strike="noStrike">
              <a:solidFill>
                <a:srgbClr val="000000"/>
              </a:solidFill>
              <a:latin typeface="Arial"/>
            </a:endParaRPr>
          </a:p>
        </p:txBody>
      </p:sp>
      <p:sp>
        <p:nvSpPr>
          <p:cNvPr id="506" name="Footer Placeholder 4"/>
          <p:cNvSpPr/>
          <p:nvPr/>
        </p:nvSpPr>
        <p:spPr>
          <a:xfrm>
            <a:off x="3124080" y="6248520"/>
            <a:ext cx="388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opyright © The Publisher. All rights reserved.</a:t>
            </a:r>
            <a:endParaRPr b="0" lang="en-US" sz="1200" spc="-1" strike="noStrike">
              <a:solidFill>
                <a:srgbClr val="000000"/>
              </a:solidFill>
              <a:latin typeface="Arial"/>
            </a:endParaRPr>
          </a:p>
        </p:txBody>
      </p:sp>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23EE-30F6-4D2E-A0D2-2FA9FD9B51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EA0C-B6CF-4828-B4A8-D6CE656EBA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13AE-986B-4707-9D78-06C7A02DA9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8A8B-D98B-4358-AA83-00ED5DDAEB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5A81E-0DCB-4C0B-9B7B-B45F783B3C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5"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23AF-F0EA-438B-892A-346B093C3D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D6DE-F263-4444-8541-0F266A52AE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Date Placeholder 3"/>
          <p:cNvSpPr/>
          <p:nvPr/>
        </p:nvSpPr>
        <p:spPr>
          <a:xfrm>
            <a:off x="1905120" y="6400800"/>
            <a:ext cx="2133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 of download:  mm/dd/yyyy</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Copyright © 2012 American Medical Association. All rights reserved.</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A44F-BEE9-4F10-BE51-C3FE48A58E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Text Placeholder 2"/>
          <p:cNvSpPr/>
          <p:nvPr/>
        </p:nvSpPr>
        <p:spPr>
          <a:xfrm>
            <a:off x="0" y="5595840"/>
            <a:ext cx="9144000" cy="1262160"/>
          </a:xfrm>
          <a:prstGeom prst="rect">
            <a:avLst/>
          </a:prstGeom>
          <a:noFill/>
          <a:ln w="0">
            <a:noFill/>
          </a:ln>
        </p:spPr>
        <p:style>
          <a:lnRef idx="0"/>
          <a:fillRef idx="0"/>
          <a:effectRef idx="0"/>
          <a:fontRef idx="minor"/>
        </p:style>
        <p:txBody>
          <a:bodyPr lIns="228600" rIns="22860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 general computational method for robustness analysis with applications to synthetic gene networ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2009;25(12):i169-i178. doi:10.1093/bioinformatics/btp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informatics | © 2009 The Author(s)This is an Open Access article distributed under the terms of the Creative Commons Attribution Non-Commercial License (http://creativecommons.org/licenses/by-nc/2.0/uk/) which permits unrestricted non-commercial use, distribution, and reproduction in any medium, provided the original work is properly cited.</a:t>
            </a:r>
            <a:endParaRPr b="0" lang="en-US" sz="1200" spc="-1" strike="noStrike">
              <a:solidFill>
                <a:srgbClr val="000000"/>
              </a:solidFill>
              <a:latin typeface="Arial"/>
            </a:endParaRPr>
          </a:p>
        </p:txBody>
      </p:sp>
      <p:sp>
        <p:nvSpPr>
          <p:cNvPr id="554" name="Rectangle 2"/>
          <p:cNvSpPr/>
          <p:nvPr/>
        </p:nvSpPr>
        <p:spPr>
          <a:xfrm>
            <a:off x="0" y="0"/>
            <a:ext cx="9144000" cy="6858000"/>
          </a:xfrm>
          <a:prstGeom prst="rect">
            <a:avLst/>
          </a:prstGeom>
          <a:no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8"/>
          <p:cNvSpPr/>
          <p:nvPr/>
        </p:nvSpPr>
        <p:spPr>
          <a:xfrm>
            <a:off x="0" y="551808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Box 3"/>
          <p:cNvSpPr/>
          <p:nvPr/>
        </p:nvSpPr>
        <p:spPr>
          <a:xfrm>
            <a:off x="0" y="231840"/>
            <a:ext cx="9144000" cy="30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7T02:22:06Z</dcterms:created>
  <dc:creator/>
  <dc:description/>
  <dc:language>en-US</dc:language>
  <cp:lastModifiedBy/>
  <dcterms:modified xsi:type="dcterms:W3CDTF">2017-04-27T02:23:38Z</dcterms:modified>
  <cp:revision>1</cp:revision>
  <dc:subject/>
  <dc:title/>
</cp:coreProperties>
</file>