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4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CEFE-CA7F-4293-BEE4-3417C67C1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ig. 6. </a:t>
            </a:r>
            <a:r>
              <a:rPr b="0" lang="en-US" sz="1200" spc="-1" strike="noStrike">
                <a:solidFill>
                  <a:srgbClr val="000000"/>
                </a:solidFill>
                <a:latin typeface="Arial"/>
                <a:ea typeface="Arial"/>
              </a:rPr>
              <a:t>Numerical simulations of the ODE model with 5000 log-normally distributed parameters with mean . (a) Temporal evolution of the fluorescence following addition of aTc. (b) Temporal evolution of the coefficient of variation of the fluorescence. Crosses and solid line represent coefficient of variations obtained from experimental data in Hooshangi et al. (2005) and from numerical simulations, respective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188E-12E2-4720-99C3-DE19E1E1C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F6453-BF0D-433A-9071-B57C47D80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AAFAC-E980-412D-BFBF-F91C4C3AD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2C7323-68C6-4819-8E4A-8F3B13A1B2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73436D-2782-4A08-8806-890209D3D2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668852-6CF3-437E-994F-234A0C5C07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7D225A-4630-45F9-970E-B2888C508A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B4DA1B-5791-46EE-B375-2867D013DA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F66B28-AF1E-450A-9376-BD9BFFE4E4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D4E702-7E9E-434F-8633-E36B178E99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97137C-1733-49AC-BACE-1375A50577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ABF0C3-6EEC-49FF-A801-E02DE77966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82FF79E-F642-4950-A8B9-5C202D6FFDD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C613E-FCF7-4B1C-AD0E-AFEA6328C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C3A908-23F1-4C61-BCBB-D1DE084B11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9C2FFC-6334-49FC-85F4-A88EA01F5E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34CBBF-1D13-47D8-9418-3CACDB132A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5583AE-95DC-4FAB-98D6-591018EDE9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70532F-2946-4ACB-89DC-071F03E82A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7E061D-9EC5-4993-8C67-4F3C2A8F87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99EA5A-3D56-4A32-91AE-43E45B0F74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6677C2-36D7-428A-B905-A52D592898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17C15B-D05B-4AB7-B7B8-53AF27FE51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2678AF1-C51A-4805-BF3B-FE6DE49D231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D98DF-FCD8-4B66-B0EA-FC21C0AD0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019B3E-69E3-4CF1-AB5C-44A6793C416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E441618-13C1-4FC3-AE50-5E2214D01F9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123ACB-C130-4271-94DC-46DCC9C33A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65EAA2-7EC5-422C-85D6-6FFE626594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746A46-E16A-43AB-9F52-3A223C4802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1BE216-07CF-441E-BC3C-ADB5C11655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3C73A5-1933-4865-9F31-E95AE62E80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EA0E6B-B3C2-4DDD-B067-14BE4E99FA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D6A789-0A55-46C0-BA1E-53201CC9BA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FBDEF1-514A-440C-9781-CCA5B09AD5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5E25E-3856-4886-86BA-375F38E7E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B9FF72-A38C-4A80-8501-421B946DA1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E68E61-443A-4773-90E1-65099455D16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55628C1-1BB3-44D2-8819-A3E3C7EEC6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BC4376-2FD5-448C-917C-AFCF40FAA3A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3BD8C2-5811-45B5-9F26-176F67C4F73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76D6B5-074D-4F5E-ADD2-A2578B8748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082F15-2F5D-4F98-B1E5-EFE687E0BA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DF7F4E-C7CF-4942-ABC5-1ECE158144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782445-9005-4A66-908D-DAB6CCBA60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7817F3-90F0-433F-8DEF-4127C03911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160C0-7828-4998-AF11-57BADE76C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7451C6-16BD-4A2C-BCF9-6121344C14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9114BD-5D1F-41B5-82E7-6AB9AC15FD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861C9F-7088-4AD7-BB5E-689F95063A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E18845F-4C0A-45AC-8C26-F68BA9EDE54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3B96165-BAC1-4B99-A0FC-A86237F60CA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39EDD-608E-4A22-B586-D3B577111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71062-9EDF-4E8F-AE42-82D126A34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6A86C-5FFB-4377-9199-01BCAA25E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8303D-3593-413F-97BE-285ECE78C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50111-2F35-433B-920D-4A5218910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4C9DA-983D-45DB-A64E-847127808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5D329-DFD0-497F-8162-BE885C721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7B8A0-9BC7-40B3-80C7-E18B88321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3166D-4F6D-4169-BED8-B033A8071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BCC7E-B7F8-4F9C-9624-FBE7C33D76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13567-081F-4728-AD8D-F2F7C8653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168557-94EA-4E34-8D47-CFF1DB2463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75FD47-6AAA-49D8-8CAF-AE8453A79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5953C5-14AD-45EB-A6CD-1A00925F37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D75DFF-0780-4F66-81A9-A6F8E3C54B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27C720-E2F7-4EBD-A18C-29842C0338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99B8A-3699-4493-8189-00EBEE1EB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669A57-1215-4E52-AE58-69B39DC9D1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D4C494-DA1D-4CEE-BA90-7AFA083CD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1281ED-E191-4DB5-B688-EED7254146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CA768A-A94D-4A06-9203-2235AC077B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A1085B-94E6-452E-A382-DB00A7D675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36BA78-817E-4400-9786-40FA99B72A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8A7425-BB1A-4AED-80DA-A938E66B29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768678-AE55-4847-A2E5-390526E676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C3814C-4AE3-4D4C-9877-8423313DB0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AA8B01-9B8D-4FF7-AF4A-420F389FC7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F7BAD-A306-46DD-B22D-8DD9654E7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565A44-B0F6-4E9F-8126-9488FEEA68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3BB324-0B60-46D1-9AF0-4CE6AB68C6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AB4D70-D5FF-4054-ADDA-3FBDB65E19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AB3D59-8148-495F-AFE3-6D2ECC2EE0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74D242-30A9-4E38-BDFB-FFAB28CFFF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60B43-CEA3-4487-8D3D-CC96873943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6D10BB-05E4-4536-B9CD-19F15957A0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1C58F9-EBB2-417D-A7E5-5BF2CA5C98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C7FEE8-BF35-46AE-9B5B-301251CDCD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0B5722-E4F0-4AB7-91C9-5B7322FA2A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999C6-4CE9-47F8-BD77-081EB545C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55B21D-2814-4975-82C0-602B0AFA4B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24AADC-1AF7-4225-A3A4-2078A79317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93B425-5F89-48E5-9930-0C1B5831F6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925695-517B-4818-8B7B-C2C07C6B22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FC013B-6D42-4BEB-9164-FB40A39C58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BCC4B7-4FEC-4424-84DE-BD7C900914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DEF1C7-5D01-4F3C-8ACD-C48BC91DBB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2CA7D7-3052-4884-9C72-2246404130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2F0FF2-3F24-4745-81B2-C9A29D1849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BBEFDE-1472-4E73-9801-AB20AF1C8B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06C2E-E35B-4E2A-957C-DB85DED62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60E20B-94ED-4695-8850-A3F9BC13B1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18164F-C949-484E-9CD0-B08083D327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915323-DA54-4A31-8902-A25FF184A1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56D2BF-F4EB-4919-8177-F63C117934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2DF6C7-85AF-4B96-9EB1-83BA9325BA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E2EE63-B34B-49A0-AA07-C151298728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78227B-7A62-4032-AACC-2F6BC6B3D7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4FF58C-9B78-402E-B2E0-6CB52CE6D5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959FA1-54EB-4F36-8984-5A9FB7A725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09E828-C5A4-4505-B212-DA1ED14BCE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36BF5-42B4-4C3E-9B59-823AC1577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8DABA4-CA17-4C9F-AB42-8B41163C86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0D42F1-47EF-460D-BA3B-7AFB6C62AA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A82A30-A2CD-4EDF-8D49-CBAEE1FEA9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F9A55A-DA74-4EFE-89C5-682F65944D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179823-76FE-4F31-B073-489AE2F571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476261-8882-4197-AE48-1CF6FE9C18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94AE3C-48B6-469D-ADB3-F1F79D7B56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2236C0-7B84-461C-8ECD-2BC650E564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B012D2-98AF-4A4C-AD8E-C9646D9351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9281AF-42DC-4B59-9C91-20950386B8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2858D-757F-4760-858C-F9CDEF8E8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528C39-C606-4EDD-85B4-52D187C472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8E602E-DC4F-4206-9D7D-7676B0511C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E3F765-DF7C-4997-9592-5D6C3ACFAE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C06C7B-559C-4B8B-88C8-34AB32DC20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28912E-A751-413D-8264-3B2A86224A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F31BF7-92F3-4192-9DAA-82A25B451D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1C276F-20B7-4C96-BF30-0757FDC7C4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E242E3-283F-4810-8EBE-881D479360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DB158A-7D51-46A1-BD24-587FB1FDDE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1CA0B4-EE65-4F99-A23D-CAE8E92A98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63354-980C-4525-BFCD-B2B9CD61E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238761-CD93-410F-990A-56DFA3710B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CF9421-F554-4F74-A2BA-3885DF725A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C32312-73EC-4CF9-84A2-42142FCF9E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AC441-5916-42F3-BF17-352B053F0B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5FEA5F-4799-4487-BFFE-46D0F2BE2E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ED8793-6A27-4017-85EC-7A78379BC2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0609EF-D4C1-478F-A171-C7E804E9A0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6505D6-0448-42DE-B6DE-4454A4EDFA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1C97C8-88B4-4352-A5F1-BF9B83B787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E754D9-7046-4BD0-BD25-6A147418A16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C8F7-44EB-4775-8A50-9A733E85CF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4108-B1C0-4B21-8E58-F71FBB9377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CF6ED-C7BB-4644-A4C1-CDDFB8D65F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A123-85C1-4617-8729-26D947F845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itle Placeholder 1"/>
          <p:cNvSpPr/>
          <p:nvPr/>
        </p:nvSpPr>
        <p:spPr>
          <a:xfrm>
            <a:off x="457200" y="35100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CM6 White Label Figure</a:t>
            </a:r>
            <a:endParaRPr b="0" lang="en-US" sz="3000" spc="-1" strike="noStrike">
              <a:solidFill>
                <a:srgbClr val="000000"/>
              </a:solidFill>
              <a:latin typeface="Arial"/>
            </a:endParaRPr>
          </a:p>
        </p:txBody>
      </p:sp>
      <p:sp>
        <p:nvSpPr>
          <p:cNvPr id="506" name="Footer Placeholder 4"/>
          <p:cNvSpPr/>
          <p:nvPr/>
        </p:nvSpPr>
        <p:spPr>
          <a:xfrm>
            <a:off x="3124080" y="6248520"/>
            <a:ext cx="388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Copyright © The Publisher. All rights reserved.</a:t>
            </a:r>
            <a:endParaRPr b="0" lang="en-US" sz="1200" spc="-1" strike="noStrike">
              <a:solidFill>
                <a:srgbClr val="000000"/>
              </a:solidFill>
              <a:latin typeface="Arial"/>
            </a:endParaRPr>
          </a:p>
        </p:txBody>
      </p:sp>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9"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A060-9C11-424D-94B5-A3B7EAD45A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3AE8-7051-48CF-99A7-0F831C5C45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6E65-8DD5-42E8-8BC2-98F396778D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C0D0-CAEB-4029-B5D2-41D70002A4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A92C-7411-4770-AE4F-F2594F2BA1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5"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5E9B-D405-4215-AE6E-B1A06ECF48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AED6-ABE9-447B-B732-44EC8A341B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F443-F718-4B85-ADA1-EF1EC777ED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Text Placeholder 2"/>
          <p:cNvSpPr/>
          <p:nvPr/>
        </p:nvSpPr>
        <p:spPr>
          <a:xfrm>
            <a:off x="0" y="5595840"/>
            <a:ext cx="9144000" cy="1262160"/>
          </a:xfrm>
          <a:prstGeom prst="rect">
            <a:avLst/>
          </a:prstGeom>
          <a:noFill/>
          <a:ln w="0">
            <a:noFill/>
          </a:ln>
        </p:spPr>
        <p:style>
          <a:lnRef idx="0"/>
          <a:fillRef idx="0"/>
          <a:effectRef idx="0"/>
          <a:fontRef idx="minor"/>
        </p:style>
        <p:txBody>
          <a:bodyPr lIns="228600" rIns="22860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 general computational method for robustness analysis with applications to synthetic gene networ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informatics. 2009;25(12):i169-i178. doi:10.1093/bioinformatics/btp2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informatics | © 2009 The Author(s)This is an Open Access article distributed under the terms of the Creative Commons Attribution Non-Commercial License (http://creativecommons.org/licenses/by-nc/2.0/uk/) which permits unrestricted non-commercial use, distribution, and reproduction in any medium, provided the original work is properly cited.</a:t>
            </a:r>
            <a:endParaRPr b="0" lang="en-US" sz="1200" spc="-1" strike="noStrike">
              <a:solidFill>
                <a:srgbClr val="000000"/>
              </a:solidFill>
              <a:latin typeface="Arial"/>
            </a:endParaRPr>
          </a:p>
        </p:txBody>
      </p:sp>
      <p:sp>
        <p:nvSpPr>
          <p:cNvPr id="554" name="Rectangle 2"/>
          <p:cNvSpPr/>
          <p:nvPr/>
        </p:nvSpPr>
        <p:spPr>
          <a:xfrm>
            <a:off x="0" y="0"/>
            <a:ext cx="9144000" cy="6858000"/>
          </a:xfrm>
          <a:prstGeom prst="rect">
            <a:avLst/>
          </a:prstGeom>
          <a:no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Straight Connector 8"/>
          <p:cNvSpPr/>
          <p:nvPr/>
        </p:nvSpPr>
        <p:spPr>
          <a:xfrm>
            <a:off x="0" y="551808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TextBox 3"/>
          <p:cNvSpPr/>
          <p:nvPr/>
        </p:nvSpPr>
        <p:spPr>
          <a:xfrm>
            <a:off x="0" y="231840"/>
            <a:ext cx="9144000" cy="30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02:22:06Z</dcterms:created>
  <dc:creator/>
  <dc:description/>
  <dc:language>en-US</dc:language>
  <cp:lastModifiedBy/>
  <dcterms:modified xsi:type="dcterms:W3CDTF">2017-04-27T02:23:38Z</dcterms:modified>
  <cp:revision>1</cp:revision>
  <dc:subject/>
  <dc:title/>
</cp:coreProperties>
</file>