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9EA8-769C-479B-A2BB-6287B267C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g. 6. </a:t>
            </a:r>
            <a:r>
              <a:rPr b="0" lang="en-US" sz="1200" spc="-1" strike="noStrike">
                <a:solidFill>
                  <a:srgbClr val="000000"/>
                </a:solidFill>
                <a:latin typeface="Arial"/>
                <a:ea typeface="Arial"/>
              </a:rPr>
              <a:t>Numerical simulations of the ODE model with 5000 log-normally distributed parameters with mean . (a) Temporal evolution of the fluorescence following addition of aTc. (b) Temporal evolution of the coefficient of variation of the fluorescence. Crosses and solid line represent coefficient of variations obtained from experimental data in Hooshangi et al. (2005) and from numerical simulations, respective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B4C9-975C-49A4-8937-75B5861CE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98F34-678E-41E7-896A-7F5A33348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F0445-A726-42A3-BFB9-B89D3C878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C24A28-4B16-42D7-8386-9550579550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B613DF-64B1-4DB4-912B-9829009550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2CECAB-870F-4874-AC94-06261C8F41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452B05-F543-4A5B-BEF9-F0948BCEA5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9F8D4-83FC-466B-8708-ED6317EBC8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6BFFF-64CD-4817-93F1-22397096C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6D93F0-18EA-49D4-9E39-3CE4995D35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41F0E8-1B45-4F8C-896D-E28DD27E1D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8B18B8-85A5-41FE-9024-ED83A72CF7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B662FB-E372-43D4-948C-A8762E07A0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9C9FB-CE66-4137-BB75-C402EFE4D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E132AB-D844-4EF9-8820-91F092D4FC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9B7207-253C-40E2-B145-C849868E68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6EE36C-E109-49C2-BD5E-19E89CB606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D9E62B-EC33-4D3B-BEC7-57DC7BBB8A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A5A4EF-3BA8-480F-B958-0B169276A0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FD694F-8ED1-466F-8B3F-4771BABEB0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E2DC79-13F1-4A64-9425-6D97362A02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1A6858-4D98-4BB0-B667-B0F3B388A0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83B90A-6031-4FE1-A91A-FC7F19EEF4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F4AC38-4059-421D-B1B2-B983558390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0F057-CEA2-4F09-A6EE-47274D6BD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A79061-4A15-44CC-B74C-68D2F3015F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8484A1-16D0-4113-BFD6-1947B8476D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FFE28E-4979-4A8E-88A4-530EF284AE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FF9670-CCE0-4138-B5D5-0E88349EE3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CEBCA6-1F06-4CB5-A377-116C338AD2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8FB335-C3F5-4A28-9084-8A0F84DBA1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8F1A46-7C8C-462A-A64A-29CB147CE8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3A62DD-BCE5-4F6E-9923-36DE1441EA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56DDF5-A141-41EE-BE1E-569C5D9FC5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616508-6C91-497A-8E64-E8B6088550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ED764-B471-4AA4-8CD6-D8207FCBB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00C5DD-F50A-4D8B-BF83-BF7B9C5E02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8808C5-0417-4910-BF9F-09399608A6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72940E-D169-4FE9-8AD1-94CBC0C1FA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3F1392-75E1-4B50-8276-30E717DA82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B21BDD-0D4D-4F78-9EBC-8A051D8B63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CAA92D-B195-492C-87CD-77B1F52FF0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2B3627-BA3F-46B3-AF63-D15E5267C6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68E72C-3FFA-41A8-82C4-C5DE50F810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1C0FD1-541B-446D-88B7-D626F5BC9C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062466-FB64-44C4-A5EF-4221E160D5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D1000-B3C1-40B6-8165-F407D8EEF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A30585-1017-4BA1-9742-22EEF208C3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62E098-1DA0-4603-A9DB-7E1B287F89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BD2A06-12F7-437A-823D-DB13BF4DBB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C2F23DB-D966-4648-B3E0-9A7548C535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A1546B9-A2AB-4E5E-B703-382D5A0BC13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1F4C4-F3D3-4C74-8932-C04CE3DBA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625AD-01A4-4617-A465-EFEA19C15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A25E9-71F3-45B5-8E84-5EE74F329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FDC7E-D45B-4E04-B7B0-3A2943065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9AE9D-A23E-4F27-9B41-3D1D21A75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CC48A-C3E4-43EA-82ED-6E3396C07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312CC-747C-4A45-B428-9C33C1929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26B5C-9391-43E0-A8F2-B01B48045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3A660-410F-4681-8712-12B4C02EB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0760F-5ED3-4491-9674-D9F118516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1D4FD-7A52-4713-8D48-EDAD55BCA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B181F-3EFA-42A2-9382-03048B49F5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8D68A-ABA6-488E-8536-EEFE5FB14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A58F2-FDE3-4726-A49A-0F2227455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58783-0A74-4C51-81CA-3EA4D9823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880C91-2D2B-497C-8484-F863C3CAF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EE135-8A7E-4725-950C-3E5A0FF9B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139AC-A2BE-4CAA-A1E1-AC5828C76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F4B67-8C4A-449E-A147-71147F279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6B758-EFCA-40C1-87D8-89AE25747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57435-14F8-495F-8336-97394A176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68B1FD-FDAB-4321-AD56-356A05242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28CE43-23FF-492F-AA18-E4872CA780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98AA6D-FC8F-4BE4-A322-6FE9E4FB6F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A8DE00-D844-4EAB-B4E5-FAB7F26F28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BF77CB-CD9E-48C5-AEBF-37541FBDC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94E3DD-DF9D-448F-B2A4-BCFDFC997B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59E29-2270-452B-9796-97D1A2B67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1E119-FF95-4484-A226-8677D8EEA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A7DD1-B5C8-48E3-900B-E180915325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615E9-4F02-4A82-9C97-19446C1F37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1B216-7EC5-4E85-ADF0-778AE2696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197E8-1258-4C6E-9BE5-D2E65F6C4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BDD3D-09F9-41BD-873A-4C5654DA9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A45D3-C821-4452-80CF-ADDD927B76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CB1C26-FC73-4FCD-8DDB-3EC90FA79E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777322-7315-4BBE-AAF8-6CF0BB247F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98D89A-E354-42CD-B81F-1AA907EBD1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59869-DFBB-4004-A6D5-15F20BAB8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DC9128-D7E0-40B3-9DC6-D8F89389F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8A16E-84B6-4EA2-97AE-50233E499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FA9221-262C-427F-A0AA-50F9F06C2B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7FF06A-D735-4433-B1D9-0D514E8A6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7F2935-5C5C-49E7-92E8-14B65E23D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A4A7E-3A42-46FD-BB86-ED0051967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BB30A-0E40-428F-AC09-9D9250CF8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2B716-BDBA-4885-9AFF-99761AF55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A096C-92D0-4A88-97B2-DB9F08037C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ABE84B-7014-465D-B8E0-599CBA674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B2620-49A3-481A-97EF-51D7A0FE3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8DE186-F156-40AD-84C6-3AC78AB2B0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62DF98-1F0C-41E7-8482-C48375047C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BD65EE-17B6-44F2-A28F-01F4CB178E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9DB5DB-E7E2-4FEE-878A-76E842CFE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87BC12-4B56-4444-85A7-63185B0BAB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637BFE-AFEF-4C05-96E8-497EB3E60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A6500-5D4C-495B-AA9B-D2AF870E7A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DCB2B-DEEC-49ED-8BAA-6F6E75AFF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C4F243-1692-4FF1-98F8-D0985431B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D9BB22-1373-4FFC-B151-B8D3EF221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ADEB6-281D-4DF9-9F1F-ECE99B4A5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4A4F6-80A9-4BBF-BC53-24EB76719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1B6395-017B-4716-9E16-746AEA6947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CCAE13-950C-4FF8-8EBD-E202424876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296E08-843D-4593-8AFD-67BF540F60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010B36-7A58-40A5-9721-333E45B2DB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0874EA-8CD1-4382-BC8A-F3FE86C109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8F1B4B-907B-4E20-BE76-111A99A8A3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15D91-489E-4935-970F-0F382132CF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E43B1-BE3A-4E61-AE45-D209C94FC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0AE0F-3762-4CEA-9F23-8CADF055F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94FE5-B1DD-49CB-9592-E853F4B69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8D7CF-E5DE-4BFD-9F30-61608BBAAC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2393B-3F37-4CF4-9C53-BFE0D693F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442D51-7716-4457-B96E-607FA286C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B3D66A-CEB6-4BAE-84A3-89CCB2D5E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A66E22-6618-4712-B9A1-F59FFDE096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AC8F64-770A-4F02-9DED-F8FEC53B19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E20E48-EC05-41D1-90E0-6192C16E10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E25977-CE2B-41D4-8F41-92519A53A2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58FA08-DE78-4939-B8B3-8D8DB4905D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884128-2D86-4A8D-B77B-01EB912EAA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3393E-542D-469E-A787-20E4900A7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8F1B35-3626-4424-A8F4-C39610FF92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EA0A47-6F0B-4C47-9849-89C8356B0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520F77-C254-4001-98ED-6B0387BB5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5EE94-A50A-46DA-9250-104FA2B9B9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6AF27-C90F-467B-9182-E257EC993D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CB6B99-486C-4048-8541-7DF76AD922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E21837-7DEE-4066-B018-05BD30AD06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FC4B28-D8EB-473E-9584-8647C695FF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BD8DB9-64A4-435F-ABB6-AB719DDFB4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7E44C7-69FB-4BBB-9082-89F2CAE003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6919-FFAD-4DFB-876A-835FA8C89C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396B-7A2E-444A-AA48-B2D50D0608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AF84-0EA7-4011-B19A-5D30A078C8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8BDB-CE3D-4CB1-A3CB-2BAE8F695A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7CB6-357C-4D7A-9344-BA5DCFDF2E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962B-D024-49C5-B730-3FDC3F55A2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026B-991C-4211-B982-084206AB01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54F3-ED31-48B0-B48C-878411F870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D869-6DD6-4E25-874B-010928D3CE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F2C9-343D-4A15-AA31-AA67FDC4AC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D25C-64AD-4959-8375-0F3F955BEB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45A3-C1E9-432F-A3DE-D0E01F2F2A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Text Placeholder 2"/>
          <p:cNvSpPr/>
          <p:nvPr/>
        </p:nvSpPr>
        <p:spPr>
          <a:xfrm>
            <a:off x="0" y="5595840"/>
            <a:ext cx="9144000" cy="1262160"/>
          </a:xfrm>
          <a:prstGeom prst="rect">
            <a:avLst/>
          </a:prstGeom>
          <a:noFill/>
          <a:ln w="0">
            <a:noFill/>
          </a:ln>
        </p:spPr>
        <p:style>
          <a:lnRef idx="0"/>
          <a:fillRef idx="0"/>
          <a:effectRef idx="0"/>
          <a:fontRef idx="minor"/>
        </p:style>
        <p:txBody>
          <a:bodyPr lIns="228600" rIns="22860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general computational method for robustness analysis with applications to synthetic gene 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nformatics. 2009;25(12):i169-i178. doi:10.1093/bioinformatics/btp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nformatics | © 2009 The Author(s)This is an Open Access article distributed under the terms of the Creative Commons Attribution Non-Commercial License (http://creativecommons.org/licenses/by-nc/2.0/uk/) which permits unrestricted non-commercial use, distribution, and reproduction in any medium, provided the original work is properly cited.</a:t>
            </a:r>
            <a:endParaRPr b="0" lang="en-US" sz="1200" spc="-1" strike="noStrike">
              <a:solidFill>
                <a:srgbClr val="000000"/>
              </a:solidFill>
              <a:latin typeface="Arial"/>
            </a:endParaRPr>
          </a:p>
        </p:txBody>
      </p:sp>
      <p:sp>
        <p:nvSpPr>
          <p:cNvPr id="554" name="Rectangle 2"/>
          <p:cNvSpPr/>
          <p:nvPr/>
        </p:nvSpPr>
        <p:spPr>
          <a:xfrm>
            <a:off x="0" y="0"/>
            <a:ext cx="9144000" cy="6858000"/>
          </a:xfrm>
          <a:prstGeom prst="rect">
            <a:avLst/>
          </a:prstGeom>
          <a:no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Straight Connector 8"/>
          <p:cNvSpPr/>
          <p:nvPr/>
        </p:nvSpPr>
        <p:spPr>
          <a:xfrm>
            <a:off x="0" y="551808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Box 3"/>
          <p:cNvSpPr/>
          <p:nvPr/>
        </p:nvSpPr>
        <p:spPr>
          <a:xfrm>
            <a:off x="0" y="231840"/>
            <a:ext cx="9144000" cy="30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02:22:06Z</dcterms:created>
  <dc:creator/>
  <dc:description/>
  <dc:language>en-US</dc:language>
  <cp:lastModifiedBy/>
  <dcterms:modified xsi:type="dcterms:W3CDTF">2017-04-27T02:23:38Z</dcterms:modified>
  <cp:revision>1</cp:revision>
  <dc:subject/>
  <dc:title/>
</cp:coreProperties>
</file>